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EDA-A370-46FF-BC7E-4917B7DE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46B-AA1D-460E-8BD0-4813E5B0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95B-CA3A-4814-A330-46764651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AC3-A2D2-499A-AC87-B8D7AA8F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CBD4-3FE5-45CC-B07A-368B89C4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0B07-EB5C-44EA-8F54-A32204F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E818-7C69-4B24-BE19-137ED2A9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D50F-63DD-4491-AF92-0F5ACB32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FA80-2883-4174-95CC-89C458CD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CD4B-898A-405F-8224-A261FECD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AB5E-253B-4484-A188-F44990FD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F04-CEA8-4E0D-B975-4C1E5D70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75E9-6434-4B60-B82C-6D85DABA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512-009D-4810-B337-5D5D310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FF05-8B6F-4000-B2CC-1E7B9E9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BD6D-03A7-4281-ABC3-7E677595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4BBB-C575-4A08-8E62-B8FE014B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B08D-12C1-4331-9776-E4D84431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C97B-E49F-4DFB-BAA7-FA86DF60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6B96-DD90-4EBB-8C04-F09DA926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6C4A-8BC8-41AE-AED1-71560A53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5549-F1AE-4CB1-86F0-733EB022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115-84B9-4D0F-8CE3-007A1195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667A-A06F-45DF-9AA5-8D4F750E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F476-B21E-4A78-91FA-AA8C7D3A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8035-2153-43A1-9A82-161DAFF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9327-9F21-4F2B-8415-ECCAE6D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BF4D-040B-4D8F-999A-75FB895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4CD5-221D-4899-96C4-A3BCEC2D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41F3-2A21-46EF-88D6-B3B475B3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0C45-C9F0-4DD3-B830-B2860557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983E-74A9-4B56-BDFE-64C00299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7912-7065-4037-AF39-32091F7C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9DA-C377-4378-B33C-B5C56CB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6561-9F2F-422F-9FDF-9077948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76F3-9D4C-446A-9E37-7C8B3E12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46CE-A82D-4170-A9B5-8056811F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6971-B2C0-4D04-B75F-7E5126F0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5D2A6-770B-4C5B-9245-4078026B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866E-A0FF-4EDA-BCE3-077B9B77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771F-A176-4BEB-90EA-ECF7BD50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5A1C-2ADE-425E-9469-90895BFA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48AE-57F6-4262-9D95-D3E97304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574-62B6-43B6-A76C-C395E0F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9C5-3C26-4910-81F7-2233C70E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0CC-3E0D-4A5F-8640-0B0140A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269-88CA-49C9-9C95-A31CEA9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D56-8C22-4E87-B967-294B0B9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209-C2E8-403B-87F6-ACC4B5F036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BD58-B446-480E-8289-545A0C823E8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721A-ABE2-43C4-99AC-D09BCA33C47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240C-36B4-4AFE-80C2-5810B3E3DA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8467560" cy="3060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 ученик 7 «г»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обанов А.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презент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ести понятие волны и проанализировать её характеристик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311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олной</a:t>
            </a:r>
            <a:r>
              <a:rPr b="0" i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зывают колебания, распространяющиеся в пространстве с течением времен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5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5324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жнейшей характеристикой вол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является ее скорость. Волны любой природы не распространяются в пространстве мгновенно. Их скорость конеч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распространении механической волны движение передается от одного участка тела к другому. С передачей движения связана передача энергии. Основное свойство всех волн независимо от их природы состоит в переносе ими энергии без переноса вещества. Энергия поступает от источника, возбуждающего колебания начала шнура, струны и т. д., и распространяется вместе с вол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заставить конец растянутого резинового шнура колебаться гармонически с определенной частотой  V, то эти колебания начнут распространяться вдоль шнура. Колебания любого участка шнура происходят с той же частотой и амплитудой, что и колебания конца шнура. Но только эти колебания сдвинуты по фазе друг относительно друга. Подобные волны называю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онохроматически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сдвиг фаз между колебаниями двух точек шнура равен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то эти точки колеблются совершенно одинаково: ведь с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=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=соs2</a:t>
            </a:r>
            <a:r>
              <a:rPr b="0" i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t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акие колебания назы­ваю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инфазны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происходят в одинаковых фазах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язь между длиной  волны λ, частотой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скоростью распространения волны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За один период колебаний волна распространяется на расстояние λ. Поэтому ее скорость определяется формул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λ /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как период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частота V связаны соотношением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1 /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орость волны равна произведению длины волны на частоту колебаний.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якишев Г.Я. , Буховцев Б.Б. Физика – 11. М. 199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еснин Р.В., Яковлев В.Ф. Курс физики. Электричество. М. 19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орский Б.М., Пинский А.А. Основы физики. т. 2. М. 198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ru.wikipedia.org/wiki/Электромагнитное_излуч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physics.ru/courses/op25part2/content/chapter2/section/paragraph6/theory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http://bse.sci-lib.com/article126043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ossary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g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drlqywusgjtoy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ur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2:22:41Z</dcterms:created>
  <dc:creator>Григорий</dc:creator>
  <dc:description/>
  <dc:language>en-US</dc:language>
  <cp:lastModifiedBy>Григорий</cp:lastModifiedBy>
  <dcterms:modified xsi:type="dcterms:W3CDTF">2010-06-04T12:19:29Z</dcterms:modified>
  <cp:revision>5</cp:revision>
  <dc:subject/>
  <dc:title>Понятие волна и ее характеристики</dc:title>
</cp:coreProperties>
</file>